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jpeg" ContentType="image/jpeg"/>
  <Override PartName="/ppt/media/image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CCFD-5698-4EC0-9D72-A74A89109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EA60-9FCA-44C5-8242-CAD58F5C43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nglish Teacher to Learning Coach: Learner Autonomy and Empower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y do we need millions of educators to rewrite or create material, curriculum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y do we need this In the age of you tube and MIT open coursew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great stuff is already out t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re’s Digital oxford universit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e need that efficiency in the education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B4AC-899F-4152-8655-C7A6A321A6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echnical: how to construct sentences; grammar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actical; how to write a paragraph for an ema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ultural: who is the audience; cultural implications and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ritical: what the message is; clarity of thought; cohesiveness;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eacher as a personal learning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hallenging the belief system of teachers and creating a culture of reflective work will, in MuHammads’s (2009) view, help schools develop as a place where all students have the ability to succeed.  This cultural change will surely allow for a learning environment described by the notion of a personal learning manager.  Of course,  we then have to take a long look at what or where a “school” is and position that place or that space for this new teaching 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0CF8-EEC8-4094-A2D0-AB9FE61207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s need to develop the skills needed for the 21</a:t>
            </a:r>
            <a:r>
              <a:rPr b="0" lang="en-CA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centur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Give the exampl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 live in cana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’m living in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xplain the context and the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5245-81CC-411D-805A-62CB994003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Jack Uldrich-global futurist and Chief unlearning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ot that people cannot understand the future but unwillingness to let go of present-e.g. “LINC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One of the most critical skills of the future is not “lifelong learning” but unlear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o attain knowledge, add things everyday  by chinese philosopher“lao tsu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o attain wisdom, subtract things every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efinition of unlearning; To see the world not as you see it but as others d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.g. E and backward “E” how “E” is seen by others i.e. back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ot so much what we know but what we don’t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s humans, we’re pattern seeking animals even when patterns don’t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Jack says that If you want to unlearn, create a list of anti library ie. Books that you never read but should 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F603-0592-449A-A9F3-E2551D3D31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efinition of unlearning; To see the world not as you see it but as others d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.g. E and backward “E” how “E” is seen by others i.e. back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ot what YOU should teach but what your LEARNERS want to learn-go back to needs assessment example: assessment from whose perspect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ot so much what we know but what we don’t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s humans, we’re pattern seeking animals even when patterns don’t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8632-DDF2-4695-85AC-0D31EE2383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s is what you have learned-i.e. What you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s is the content we create and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71BB-4098-4C16-8D54-67596A0571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eaching is still relevant; the question i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at does teaching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257C-01DE-40AD-AF4E-75A2765B38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s is what we don’t know; that’s what unlearning is ab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ontent we 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xample of counting white basketball and 500 pound guerilla in the room that no one saw as everyone is coun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Basketball players: icebe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guerilla: underneat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lso, example of the penny increasing exponentially; value of compound knowledge, mon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ikepedia using collaboration of 1,000,000 people taking 100,000,000 hrs to bui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EDE8-A480-42FB-B420-7AF978EA43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16BA-D419-4667-B391-58273638F7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oject-ba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hort stories, autobiographies, class projects, creating web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SL w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s research about funding esl &amp; linc in ontario; immigration patterns, declining enrolment (hence budget cu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ong dist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ail correspon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er to correct email messages if anx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er 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t ro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-cultural and discourse prac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Or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fter struggling to replace the once adrenaline filled void in his life, Miguel, the matador, turned to teaching at his local language sch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A964-9D1D-4780-90A3-51E22920C8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Or this? Or other way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CEA9-9057-444E-9AD9-0CA259AAB9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6C61-ECB5-43DD-B0C4-F9CD820D0B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F695-E655-482F-9629-12B66E4E60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3C3F-1710-4CC8-9A37-CDAF5C3FF5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You are the people </a:t>
            </a:r>
            <a:r>
              <a:rPr b="1" lang="en-CA" sz="1200" spc="-1" strike="noStrike">
                <a:solidFill>
                  <a:srgbClr val="ff0000"/>
                </a:solidFill>
                <a:latin typeface="Times New Roman"/>
              </a:rPr>
              <a:t>formerly known as the aud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You –audience-know more than i do-massive amount of info w the aud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You should be up here in f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at does this remind us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lass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 system built for industrial age where we stamp all students with the righ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ll the knowledge flows from lec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f you don’t feed it back, you are wro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One size fits 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veryone must ask the same question, be provided with same answ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teacher becomes the speaker of the decid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Just like the news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e should question the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nable students to question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300D-D35F-4BD5-BCF3-D09848DC72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asks shift from creating and controlling content and managing scarcity to </a:t>
            </a: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curating people and content 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nd creating an abundance of students and teac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A world where everyone learns and everyone tea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nk of education as process </a:t>
            </a: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not as a product w an expiry date 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ith the end product being a certificate or dipl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at should schools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at matters is your ability and your desire and thou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chools become the means to help ss create what they want to cre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CC36-25F0-49FE-8092-68BA7F8139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2EAA-9192-40C2-B06A-C324E829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5861-6368-47EF-AFA6-E7579A38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EA1-21B2-49D6-B8AD-FCB8505D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28DA-1D9A-4D8D-A72B-0CC844D1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67DF-C17F-44FC-8CEE-4AB373C3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0693-0A53-4168-B45F-7B3EE336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679B-0741-41A1-8BE3-B4A5D7D9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8301-8076-425B-BD53-6903F3CA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24F8-80F8-449B-AF17-69FD1246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5391-529A-4DF2-914F-A79C88F8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DB22-8C45-416A-9DDD-4F3C5FE1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7BFC-C308-4AAF-A7A5-895D7BC2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ADC5-64FC-43B4-8F39-E08A8629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08D5-94E3-47FB-91CE-804734DF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84DE-6D98-4275-9E07-8679F944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D89F-5733-48E0-B557-08C59BBC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F943-58E2-4D1D-B823-FABC206B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6EB7-1F9A-405E-A01E-268718EA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0BA8-C869-4D78-997D-E76E1664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22DC-F054-40E0-9646-FF152A9F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EECF-1AD3-4055-9C33-EF9DDD68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18AC-3166-41A4-AB87-FFC2D513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039-FA93-4D1C-AA94-F855B09B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41F3-A307-433F-AE3C-26269599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B72F-8402-483C-B693-08A6EC32DA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2CA7-1049-4A14-8BC7-318657C9DA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b2b2b2"/>
                </a:solidFill>
                <a:latin typeface="Arial"/>
              </a:rPr>
              <a:t>The ever changing role of teachers: </a:t>
            </a:r>
            <a:r>
              <a:rPr b="0" lang="en-CA" sz="4800" spc="-1" strike="noStrike">
                <a:solidFill>
                  <a:srgbClr val="ffff00"/>
                </a:solidFill>
                <a:latin typeface="Arial"/>
              </a:rPr>
              <a:t>Is teaching still relevant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74320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cess Employment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on Raja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haron.rajabi@tcdsb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4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ff"/>
                </a:solidFill>
                <a:latin typeface="Arial"/>
              </a:rPr>
              <a:t>Educators should become more the curators than creators..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b2b2b2"/>
                </a:solidFill>
                <a:latin typeface="Arial"/>
              </a:rPr>
              <a:t>Rules of Engagement</a:t>
            </a:r>
            <a:br>
              <a:rPr sz="4400"/>
            </a:br>
            <a:r>
              <a:rPr b="0" lang="en-CA" sz="4400" spc="-1" strike="noStrike">
                <a:solidFill>
                  <a:srgbClr val="b2b2b2"/>
                </a:solidFill>
                <a:latin typeface="Arial"/>
              </a:rPr>
              <a:t>O’Rurke :200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8592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chn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ul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r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ffffff"/>
                </a:solidFill>
                <a:latin typeface="Arial"/>
              </a:rPr>
              <a:t>Higher-order goals demand what some analysts have called “meaningful learning” (Good &amp; Brophy, 1986) that is, learning that enables critical thinking, flexible problem solving, and transfer of skills and use of knowledge in new situations. (p. 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EO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O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AO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2147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600" spc="-1" strike="noStrike">
                <a:solidFill>
                  <a:srgbClr val="ffffff"/>
                </a:solidFill>
                <a:latin typeface="Arial"/>
              </a:rPr>
              <a:t>CUO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947880" y="1600200"/>
            <a:ext cx="724824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4" descr=""/>
          <p:cNvPicPr/>
          <p:nvPr/>
        </p:nvPicPr>
        <p:blipFill>
          <a:blip r:embed="rId2"/>
          <a:stretch/>
        </p:blipFill>
        <p:spPr>
          <a:xfrm>
            <a:off x="3670200" y="2755800"/>
            <a:ext cx="17924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o see the world not as you see it but as others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Rectangle 4" descr=""/>
          <p:cNvPicPr/>
          <p:nvPr/>
        </p:nvPicPr>
        <p:blipFill>
          <a:blip r:embed="rId1"/>
          <a:stretch/>
        </p:blipFill>
        <p:spPr>
          <a:xfrm>
            <a:off x="2743200" y="-1530360"/>
            <a:ext cx="6072120" cy="8364600"/>
          </a:xfrm>
          <a:prstGeom prst="rect">
            <a:avLst/>
          </a:prstGeom>
          <a:ln w="0">
            <a:noFill/>
          </a:ln>
        </p:spPr>
      </p:pic>
      <p:pic>
        <p:nvPicPr>
          <p:cNvPr id="144" name="Rectangle 5" descr=""/>
          <p:cNvPicPr/>
          <p:nvPr/>
        </p:nvPicPr>
        <p:blipFill>
          <a:blip r:embed="rId2"/>
          <a:stretch/>
        </p:blipFill>
        <p:spPr>
          <a:xfrm>
            <a:off x="0" y="907920"/>
            <a:ext cx="6072120" cy="83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ot so much what we know but what we don’t k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s humans, we’re pattern seeking animals even when patterns don’t ex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iceberg 1.JPG"/>
          <p:cNvPicPr/>
          <p:nvPr/>
        </p:nvPicPr>
        <p:blipFill>
          <a:blip r:embed="rId1"/>
          <a:stretch/>
        </p:blipFill>
        <p:spPr>
          <a:xfrm>
            <a:off x="4214880" y="1428840"/>
            <a:ext cx="39434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Content Placeholder 3" descr="9801620-illustrated-teacher-holding-a-stick-with-a-scroll-in-front.jpg"/>
          <p:cNvPicPr/>
          <p:nvPr/>
        </p:nvPicPr>
        <p:blipFill>
          <a:blip r:embed="rId1"/>
          <a:stretch/>
        </p:blipFill>
        <p:spPr>
          <a:xfrm>
            <a:off x="4786200" y="2214720"/>
            <a:ext cx="3011760" cy="2857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Documents and Settings\rajabis\Local Settings\Temporary Internet Files\Content.IE5\NRY2X67M\MM900046566[1].gif"/>
          <p:cNvPicPr/>
          <p:nvPr/>
        </p:nvPicPr>
        <p:blipFill>
          <a:blip r:embed="rId2"/>
          <a:stretch/>
        </p:blipFill>
        <p:spPr>
          <a:xfrm>
            <a:off x="1000080" y="2286000"/>
            <a:ext cx="30006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11187270-iceberg-ship.jpg"/>
          <p:cNvPicPr/>
          <p:nvPr/>
        </p:nvPicPr>
        <p:blipFill>
          <a:blip r:embed="rId1"/>
          <a:stretch/>
        </p:blipFill>
        <p:spPr>
          <a:xfrm>
            <a:off x="4071960" y="1285920"/>
            <a:ext cx="40003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b2b2b2"/>
                </a:solidFill>
                <a:latin typeface="Arial"/>
              </a:rPr>
              <a:t>H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Project-based lear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jects include many individual tasks; the umbrella of the project allows opportunities to critique and transform practice in ways that individual tasks do no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Long-distance exchange proje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arners debate and discuss issues related to culture, identity, education, etc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 teacher is one who makes himself progressively unnecessa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~Thomas Carruthers</a:t>
            </a:r>
            <a:br>
              <a:rPr sz="3200"/>
            </a:b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 good teacher is like a candle - it consumes itself to light the way for others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~Mustafa Kemal Atatü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ranslated from Turkish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 mediocre teacher tells.  The good teacher explains.  The superior teacher demonstrates.  The great teacher inspires. 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~William Arthur Ward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teacher high res 2.jpg"/>
          <p:cNvPicPr/>
          <p:nvPr/>
        </p:nvPicPr>
        <p:blipFill>
          <a:blip r:embed="rId1"/>
          <a:stretch/>
        </p:blipFill>
        <p:spPr>
          <a:xfrm>
            <a:off x="571680" y="500040"/>
            <a:ext cx="4929120" cy="386244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3" descr="teacher w smart board.jpg"/>
          <p:cNvPicPr/>
          <p:nvPr/>
        </p:nvPicPr>
        <p:blipFill>
          <a:blip r:embed="rId1"/>
          <a:stretch/>
        </p:blipFill>
        <p:spPr>
          <a:xfrm>
            <a:off x="0" y="0"/>
            <a:ext cx="932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-285840" y="0"/>
            <a:ext cx="980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6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b2b2b2"/>
                </a:solidFill>
                <a:latin typeface="Arial"/>
              </a:rPr>
              <a:t>Demands on teachers..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creased achievements for all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creased levels of accountability by fu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ew or renewed curricul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udgetary pres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creased levels of diversity in the classr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Massive amount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Diagram 3" descr=""/>
          <p:cNvPicPr/>
          <p:nvPr/>
        </p:nvPicPr>
        <p:blipFill>
          <a:blip r:embed="rId1"/>
          <a:stretch/>
        </p:blipFill>
        <p:spPr>
          <a:xfrm>
            <a:off x="7997760" y="5778360"/>
            <a:ext cx="6526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947880" y="1600200"/>
            <a:ext cx="7248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Arial"/>
              </a:rPr>
              <a:t>Are we preparing our learners for the google age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4T23:34:28Z</dcterms:created>
  <dc:creator>Sharon Rajabi</dc:creator>
  <dc:description/>
  <dc:language>en-US</dc:language>
  <cp:lastModifiedBy>Consultant</cp:lastModifiedBy>
  <dcterms:modified xsi:type="dcterms:W3CDTF">2013-02-21T17:53:35Z</dcterms:modified>
  <cp:revision>263</cp:revision>
  <dc:subject/>
  <dc:title>Rethinking literacy in electronic age: Am I teaching what learners need?</dc:title>
</cp:coreProperties>
</file>